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D8B8-656B-43C0-AC95-683C55AEDC6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786F-997D-474D-BBA6-9ED01583939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FD38-FC26-49CE-94B2-D0F5BDD20C8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4F81-BDE1-4841-880B-2B8E72488D7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2E76-12FE-4C47-8519-B80F0DAA2D6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1166-1182-4420-899F-FAA9EA3A535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BFF2-9ABA-4D4D-AAD0-47DF9B858E2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B4E0-F1F2-4FE0-A3E4-ED662AC43DD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0029-977B-47A5-BF7A-9523D39C1E5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936800" y="608040"/>
            <a:ext cx="3227400" cy="2421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7520" y="3268800"/>
            <a:ext cx="5203800" cy="61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D060-3A62-463A-9692-81D7BE76586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7039-A5BF-4441-903F-0233D000D40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88D0-8B4E-4A10-8067-99C49898B5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BABD-A09B-44F5-B19E-CEEF1A3C2A5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2477-2A02-4F2E-9D86-8D2385EFA9C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D54F-9E81-4CB5-A63D-315E264FA28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A418-1E1C-4915-A902-6CD467B74AF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575D-32A7-42EE-85FB-8B7601C218F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0988-A44D-4433-99B3-CFE728BDEAE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EA4D-6D58-4F9A-BCAA-33AD9468C6B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18BC-66CF-4796-916C-D27F0AF7DC7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36A4-F6B1-41A8-8793-9D87BEB8E58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49F2-5C5B-4B5E-A991-D168BA58C93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B75B-B4C4-48E9-BD01-4121D7D4B4A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E24A-4520-4BFC-A2F8-09D49A73E36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2B49-F824-4D45-B026-15768DF7AB1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D487-99E3-4802-8D06-6FD3750D0BD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66DF-2F87-4F8A-A6D8-D9E44254B6E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C5BC-E71C-4F33-9EAA-067F896648B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8EE1-ADA5-4021-A88A-99E75587BB6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9F19-9992-41A0-A1D7-74D0626CAC5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2F5B-BDDD-4BA0-9BA6-A301E2F60D0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1BD4-8E1C-48EC-B2F2-B803E1F58D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450D-21FC-40A8-8606-7A8C4CA219E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8818-818E-4E55-BAD1-0E9877C83C6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5FC1-69E2-41D6-BE0E-2B01DA35A3B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F659-D761-4A3A-8A80-2FC807B1E5D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74E6-6998-4342-98A2-BC66A1D8C2A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D7BD-D446-4AEB-9F7C-CAB59A17DF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AB9A-6234-4E32-BCAD-F68DDEA2090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3F95-542B-47FB-B65A-6AC96902D79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FD0C-B5FD-4DDC-B8C6-8E3DB29C543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8E19-CFCC-42E4-99FB-E764B695209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903D-1A03-4365-827C-9DD3E5277BA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F4D4-280B-4B67-A591-78930BBEF0D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AAD2-5278-4C0B-8AFF-2BBB56B5D20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D611-3D80-4E88-BB0A-6C6ABE3E86B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E8A8-FAF3-4BED-ABD8-F4BE894D1AD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FAB2-89B9-4C78-B2F7-9B00FF8CA13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4672-2BE2-4DC5-9155-2E7930C7F96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0B6E-1977-4892-9600-7617AAB717F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D0D8-5BCC-4B1C-941F-B949B08F441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E76C-A686-4782-A5F5-C7F2EFF830A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BF68-2984-423E-B8A4-9AF4DD0380B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E1DD-9F64-4424-8B3A-7EBE1BC3BC0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BB3E-66C7-450D-ADDA-BCC2997D758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9381-697E-4F1B-A74A-DC0ED9F0C7A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C307-1007-4FA9-A733-D448F56B480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0D30-185D-4178-A14B-5E10EFB1771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DE5B-31C5-445C-8F72-D801A69223A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6D9F-D4D4-4AC9-8A83-3ECE20569DB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6D50-B466-48A8-8998-EA10E2F6DC3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8FA4-87D9-4D11-A053-6479CE1E85A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5B2D-DE9F-4E31-82B9-B7C32899870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61CE-6395-4039-878A-DBBF6689FA3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B16-8970-4679-AE9F-9F0D9C2A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1A96-89EB-4464-8473-19BFB784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B1A-C384-4A3A-BA7E-AB727623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0324-058C-4878-8FED-2F05628F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D1B9-6F2E-461C-AF57-3A610B54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83B5-7C53-4098-BB8A-DAADE895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3DB3-4552-488D-8F31-88ED4F61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026D-8E43-4FAC-9A55-5BF90E88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818A-C3F1-491D-A4E0-F33EE2C3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1C5A-BC2D-459D-9288-F62A6CE8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E0AD-A3A4-4DD7-9DC5-2221CC92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918-5563-43DE-9C31-949B4278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2446-975A-47B3-8632-33B691DB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ACCB-94E7-4B56-B1D7-C13E6ABF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92DF-35D2-4AEB-83E9-3E53C739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02B6-8745-4FBB-8C38-79D4ECB5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FE6D-CE20-49CF-A07A-58B87689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426AAF-1782-4A6E-A40D-B984B8D5D8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DEBA2-10CF-42D6-8DA8-0E9BCC3055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0CAB82-9068-499F-BF3B-219D2DF0DA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19475A-D54D-49A5-8A1A-1007C19CF6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774CB0-16BE-4025-B92E-5CA7AD478C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803-ED73-4A21-A2B5-1C103881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08C09-2B7E-4EC3-A062-0D5C76479A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8E658-660F-429B-B467-97380C0B84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A02FD1-0C59-4480-9BF4-4168AA5A84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B8B0F-1B71-466A-9702-51BAF7CDFC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F61716-59E8-4DBC-B53E-1E9AB09D44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0ED588-19AE-4CDC-9EEB-CE32F41CA4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B0CE45-84AD-4987-B2F1-08C154F4A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921-0107-4D75-8709-2ED7FBEB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188-C5AC-454D-B096-6185E708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B3A-5963-47C1-9EFF-9BB80FBB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1954-8F2B-4799-A1D8-6C11002F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376-5689-4421-AD82-C7C83F3D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759-FF86-4FC2-B936-9386224B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50B0-05AE-4619-8D30-83D69B8DDB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9FBB-8B7A-40C4-8848-CF7114F289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90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7"/>
          </p:nvPr>
        </p:nvSpPr>
        <p:spPr>
          <a:xfrm>
            <a:off x="0" y="61718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FE1B-5A15-4428-8F31-B8470C341F09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ild 12" descr="P0303261.JPG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Gruppierung 5" descr=""/>
          <p:cNvPicPr/>
          <p:nvPr/>
        </p:nvPicPr>
        <p:blipFill>
          <a:blip r:embed="rId2"/>
          <a:stretch/>
        </p:blipFill>
        <p:spPr>
          <a:xfrm>
            <a:off x="-1432080" y="3597120"/>
            <a:ext cx="11874600" cy="3267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il 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5181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ffffff">
                <a:alpha val="9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Ontologien und Beschreibungslog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ild 11" descr="deusonto_masked.png"/>
          <p:cNvPicPr/>
          <p:nvPr/>
        </p:nvPicPr>
        <p:blipFill>
          <a:blip r:embed="rId3"/>
          <a:stretch/>
        </p:blipFill>
        <p:spPr>
          <a:xfrm>
            <a:off x="2000160" y="96840"/>
            <a:ext cx="5523120" cy="4944960"/>
          </a:xfrm>
          <a:prstGeom prst="rect">
            <a:avLst/>
          </a:prstGeom>
          <a:ln w="0">
            <a:noFill/>
          </a:ln>
        </p:spPr>
      </p:pic>
      <p:pic>
        <p:nvPicPr>
          <p:cNvPr id="145" name="Bild 9" descr="AIFB.eps"/>
          <p:cNvPicPr/>
          <p:nvPr/>
        </p:nvPicPr>
        <p:blipFill>
          <a:blip r:embed="rId4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KITlogo_4c_frutiger"/>
          <p:cNvPicPr/>
          <p:nvPr/>
        </p:nvPicPr>
        <p:blipFill>
          <a:blip r:embed="rId5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1B18-FEA6-4C61-B02D-3A271475BCA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emantic We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erarchie von Spra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w3c"/>
          <p:cNvPicPr/>
          <p:nvPr/>
        </p:nvPicPr>
        <p:blipFill>
          <a:blip r:embed="rId1"/>
          <a:stretch/>
        </p:blipFill>
        <p:spPr>
          <a:xfrm>
            <a:off x="7238880" y="45720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sweb-stack"/>
          <p:cNvPicPr/>
          <p:nvPr/>
        </p:nvPicPr>
        <p:blipFill>
          <a:blip r:embed="rId2"/>
          <a:stretch/>
        </p:blipFill>
        <p:spPr>
          <a:xfrm>
            <a:off x="1295280" y="1673280"/>
            <a:ext cx="7309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AFFF-8CFD-403F-97DA-D36D9401FAC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schreibungslogiken (DL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052280"/>
            <a:ext cx="8534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ungslogiken sind Formalismen zur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ba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kbasierte Seman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tomatische De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drucksstark für komplexes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ank genug für Anwend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 für Ontologiesprache OWL (Web Ontology Language, W3C Standard April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rntechnologie für das Semantic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 für Semantisches Wissensmanagement in Unter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D485-89EF-40E0-8CD1-75AA05F7555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inführung in D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(Description Logics, kurz DLs) sind ein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milie von Formalism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ür explizite und implizit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präsentation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trukturierte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ss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einheitlich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icher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.a. die traditionellen framebasierten, netzwerkartigen und objektorientierten Modellierungsspra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it formaler Semantik a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D238-FFF0-425E-BF9E-17858E17A01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Fokus und Zielsetz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Je ausdrucksmächtig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ie Logik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sto schwierig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ird das automatische Schließ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exität stei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che Probleme sind sogar un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iel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e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sundes Gleichgewich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 finden, d.h. eine möglich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sdrucksmächti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Logik, die für wichtige Problem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ntscheidbare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möglich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ffiziente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atisches Schließen anbiet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2ECC-5DD0-4181-B1B7-05CADDFF5530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Syntax und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sind eine Familie von Logi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gibt nich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i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eschreibungslogik, sonder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ele verschiedene Beschreibungslogik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DL werden mittels sog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nstruktor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us einfachen Beschreibungen komplexere Beschreibungen geba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chiedene Beschreibungslogik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nterscheiden sich in der Menge der Konstruktoren (Ausdrucksmächtigkeit)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 die sie anbi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42D9-9625-4CF7-96C8-7B85BB387FD9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truktoren ermöglichen d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mplexeren Konzepten au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eniger komplexeren bzw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tomaren Konzept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lche Arten von Konstruktoren es gibt, hängt von der konkreten DL a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meisten DLs bieten jed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junk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Disjunk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Nega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istenzquantor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und Allquantor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7669080" y="2781360"/>
            <a:ext cx="648000" cy="21603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5869080" y="2060640"/>
            <a:ext cx="1079280" cy="3744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llgemeine DL Architek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44360" y="1701720"/>
            <a:ext cx="5075280" cy="4392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95280" y="1844640"/>
            <a:ext cx="36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nowledg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16080" y="2421000"/>
            <a:ext cx="470988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16080" y="4294080"/>
            <a:ext cx="470988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39640" y="2494080"/>
            <a:ext cx="36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box (sche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539640" y="4365720"/>
            <a:ext cx="36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ox (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09600" y="2997360"/>
            <a:ext cx="4800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Hu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ppy-Father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has-child.Female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309600" y="4870440"/>
            <a:ext cx="4800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appy-Father(Joh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as-child(John, Ma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3"/>
          <p:cNvSpPr/>
          <p:nvPr/>
        </p:nvSpPr>
        <p:spPr>
          <a:xfrm rot="16200000">
            <a:off x="4766040" y="36666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feren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 rot="16200000">
            <a:off x="7033680" y="35593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521964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6948360" y="386064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8317080" y="386064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82600"/>
            <a:ext cx="725796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Einfaches Beispi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Terminologisches Wissen (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TBox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):</a:t>
            </a:r>
            <a:br>
              <a:rPr sz="2800"/>
            </a:b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Axiome, die die Struktur der zu modellierenden Dom</a:t>
            </a:r>
            <a:r>
              <a:rPr b="0" i="1" lang="de-DE" sz="2000" spc="-1" strike="noStrike">
                <a:solidFill>
                  <a:srgbClr val="008000"/>
                </a:solidFill>
                <a:latin typeface="Arial"/>
              </a:rPr>
              <a:t>äne beschreiben </a:t>
            </a: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(konzeptionelles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A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Wissen um Individuen (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ABox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):</a:t>
            </a:r>
            <a:br>
              <a:rPr sz="2800"/>
            </a:b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Axiome, die konkrete Situationen (Daten) beschr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1A08-8ADC-418B-90E0-C24A074D2BBE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Atomare Typ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zeptname / Klassen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Student, Mitarbeiter, Professor, Vorlesung, Studieng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bar mit einer Klasse in UML und einem Entitätstyp in 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n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weistellige P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dika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binden zwei Klassen oder Individu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Studen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such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, Mitarbeit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treu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, Profess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äl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bar mit Assoziation in UML und Beziehungstyp in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5335-7302-45E6-9033-EC4199B6807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ynta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nzept Asser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Student(Peter), Vorlesung(AngInf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Objekten in UML und Entitäten in 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olle Asser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besucht(Peter, AngInf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Assoziationen in UML und Beziehungen in 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o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e endliche Menge von solchen Axiomen (Konzept Assertion und Rolle Asser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n ABox Axiomen benutzten Konzept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önnen aber müssen nic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 TBox definiert s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65D4-49B9-4BCA-A2F3-4BA543B3198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- Einfüh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tologie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philosophische Disziplin, Zweig der Philosophie welcher sich mit der Natur und der Organisation von Wirklichkeit beschäfti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hre des Seins (Aristoteles, Metaphysik, IV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ucht folgende Fragen zu beantw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ist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sind alle gemeinsamen Eigenschaften des Se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3808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77F3-9D08-4358-A04A-A4CF63413F9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Box Synta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di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infachs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eschreibungs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tomare Ty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- (oder Klassen-) name A, B, ... und folgende zwei spezielle Konzep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?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ttom Konz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&gt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op oder universelles Konzep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llennamen R, 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trukt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Ne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Konjunk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Disjunk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xistenzqua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llqua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568A-FA6F-4B60-A19D-E3BE5E542E0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lassenbeziehun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 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önnen auf zwei Arten miteinander in Beziehung gesetzt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klus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Frau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ist gleichbedeutend damit, da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i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ussagen 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 ge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4527-5803-4154-ABC1-E3AEBFE2921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gation von C bedeutet intuitiv “alles ausser 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junktion von C und D bedeutet intuitiv “sowohl C als auch 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uchscre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gabegerät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beger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junktion von C und D bedeutet intuitiv “C oder 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iAngestellt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arbeiter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3818-886E-4DF3-B816-D00D5A917A08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C (Existenzquantor) bedeutet intuitiv „alle x, die eine Beziehung vom Typ R mit einem y vom Typ C hab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ucht.Vorle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C (Allquantor) bedeutet intuitiv „alle x, für die alle Beziehungen vom Typ R mit einem y vom Typ C sind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Elternteil.Men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ein Individuum gar keine Beziehung vom Typ R, erfüllt es immer die Bedingung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13BA-3562-47AA-ACDF-58039AF6FC0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lassenbeziehun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beziehungen 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önnen für zusammengesetzte Klassen verwendet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klus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Frau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emale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d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Orph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Parent.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isches Wissen (sog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o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besteht aus einer Menge solcher Klassenbeziehungen (sog.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xio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terpretationen für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155000" cy="423072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4"/>
          <p:cNvSpPr/>
          <p:nvPr/>
        </p:nvSpPr>
        <p:spPr>
          <a:xfrm>
            <a:off x="468360" y="5805360"/>
            <a:ext cx="2066760" cy="3938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B04C-209C-455C-9E50-E4B08719F6D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(a) gdw. 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1619280" y="3946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1611360" y="432756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Mann(P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au(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887040" y="295596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Ins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20"/>
          <p:cNvSpPr/>
          <p:nvPr/>
        </p:nvSpPr>
        <p:spPr>
          <a:xfrm>
            <a:off x="3276720" y="3898800"/>
            <a:ext cx="3276360" cy="9781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1"/>
          <p:cNvSpPr/>
          <p:nvPr/>
        </p:nvSpPr>
        <p:spPr>
          <a:xfrm>
            <a:off x="2590920" y="4330800"/>
            <a:ext cx="3962160" cy="698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22"/>
          <p:cNvSpPr/>
          <p:nvPr/>
        </p:nvSpPr>
        <p:spPr>
          <a:xfrm>
            <a:off x="3124080" y="4775040"/>
            <a:ext cx="3962520" cy="63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1BC2-0894-4AFF-A090-4D837530F43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(a, b) gdw. (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658880" y="3946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1659600" y="43275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1039320" y="266688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Ins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4806720" y="2924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1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0"/>
          <p:cNvSpPr/>
          <p:nvPr/>
        </p:nvSpPr>
        <p:spPr>
          <a:xfrm>
            <a:off x="2590920" y="4330800"/>
            <a:ext cx="3962160" cy="6984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1"/>
          <p:cNvSpPr/>
          <p:nvPr/>
        </p:nvSpPr>
        <p:spPr>
          <a:xfrm>
            <a:off x="1641600" y="547056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tEhega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1633320" y="47084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3300"/>
                </a:solidFill>
                <a:latin typeface="Times New Roman"/>
              </a:rPr>
              <a:t>Mann(P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1600560" y="510552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99"/>
                </a:solidFill>
                <a:latin typeface="Times New Roman"/>
              </a:rPr>
              <a:t>Frau(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24"/>
          <p:cNvSpPr/>
          <p:nvPr/>
        </p:nvSpPr>
        <p:spPr>
          <a:xfrm>
            <a:off x="3276720" y="3898800"/>
            <a:ext cx="3276360" cy="978120"/>
          </a:xfrm>
          <a:prstGeom prst="pie">
            <a:avLst/>
          </a:pr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25"/>
          <p:cNvSpPr/>
          <p:nvPr/>
        </p:nvSpPr>
        <p:spPr>
          <a:xfrm>
            <a:off x="3124080" y="4711680"/>
            <a:ext cx="3657600" cy="622440"/>
          </a:xfrm>
          <a:prstGeom prst="pie">
            <a:avLst/>
          </a:pr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"/>
          <p:cNvSpPr/>
          <p:nvPr/>
        </p:nvSpPr>
        <p:spPr>
          <a:xfrm>
            <a:off x="6629400" y="4038480"/>
            <a:ext cx="15228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7"/>
          <p:cNvSpPr/>
          <p:nvPr/>
        </p:nvSpPr>
        <p:spPr>
          <a:xfrm>
            <a:off x="7391520" y="4038480"/>
            <a:ext cx="22860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1581120" y="592776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tEhegatte(Peter, 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9"/>
          <p:cNvSpPr/>
          <p:nvPr/>
        </p:nvSpPr>
        <p:spPr>
          <a:xfrm flipV="1">
            <a:off x="3124080" y="4267080"/>
            <a:ext cx="358164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0"/>
          <p:cNvSpPr/>
          <p:nvPr/>
        </p:nvSpPr>
        <p:spPr>
          <a:xfrm flipV="1">
            <a:off x="3124080" y="4343400"/>
            <a:ext cx="44197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1"/>
          <p:cNvSpPr/>
          <p:nvPr/>
        </p:nvSpPr>
        <p:spPr>
          <a:xfrm flipV="1">
            <a:off x="4724280" y="4343400"/>
            <a:ext cx="198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3AA4-4254-4789-9EDA-56808CA688C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bezieh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leichheit: A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klusion: 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´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gdw.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gdw.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TBox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gdw.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jedes Axiom in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"/>
          <p:cNvSpPr/>
          <p:nvPr/>
        </p:nvSpPr>
        <p:spPr>
          <a:xfrm>
            <a:off x="6842160" y="1798560"/>
            <a:ext cx="2057400" cy="289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5"/>
          <p:cNvSpPr/>
          <p:nvPr/>
        </p:nvSpPr>
        <p:spPr>
          <a:xfrm>
            <a:off x="7667640" y="38606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6"/>
          <p:cNvSpPr/>
          <p:nvPr/>
        </p:nvSpPr>
        <p:spPr>
          <a:xfrm>
            <a:off x="8028000" y="23493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7"/>
          <p:cNvSpPr/>
          <p:nvPr/>
        </p:nvSpPr>
        <p:spPr>
          <a:xfrm>
            <a:off x="8388360" y="2708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7093080" y="2565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9"/>
          <p:cNvSpPr/>
          <p:nvPr/>
        </p:nvSpPr>
        <p:spPr>
          <a:xfrm>
            <a:off x="7596360" y="32846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8290080" y="3322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11"/>
          <p:cNvSpPr/>
          <p:nvPr/>
        </p:nvSpPr>
        <p:spPr>
          <a:xfrm>
            <a:off x="8028000" y="2781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4702680" y="35002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 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7552080" y="134136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6319440" y="1268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7"/>
          <p:cNvSpPr/>
          <p:nvPr/>
        </p:nvSpPr>
        <p:spPr>
          <a:xfrm>
            <a:off x="7070760" y="1989000"/>
            <a:ext cx="1822320" cy="24480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8"/>
          <p:cNvSpPr/>
          <p:nvPr/>
        </p:nvSpPr>
        <p:spPr>
          <a:xfrm>
            <a:off x="7308720" y="2997360"/>
            <a:ext cx="1335240" cy="11887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20"/>
          <p:cNvSpPr/>
          <p:nvPr/>
        </p:nvSpPr>
        <p:spPr>
          <a:xfrm>
            <a:off x="6372360" y="3246480"/>
            <a:ext cx="1008000" cy="4698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21"/>
          <p:cNvSpPr/>
          <p:nvPr/>
        </p:nvSpPr>
        <p:spPr>
          <a:xfrm>
            <a:off x="6012000" y="1628640"/>
            <a:ext cx="1800000" cy="576360"/>
          </a:xfrm>
          <a:prstGeom prst="pie">
            <a:avLst/>
          </a:pr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6319440" y="299736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4750560" y="18302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4218-64CE-4F6E-82F2-F61BBA52E60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Neg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639080" y="3946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711800" y="4341960"/>
            <a:ext cx="17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Mann 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1633320" y="266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2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2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2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30"/>
          <p:cNvSpPr/>
          <p:nvPr/>
        </p:nvSpPr>
        <p:spPr>
          <a:xfrm>
            <a:off x="3429000" y="4419720"/>
            <a:ext cx="3124080" cy="6094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591D-5256-4E5A-BFEC-2C6EDB5509E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in der Informa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ontology is an explicit specification of a conceptualization. [Gruber, 9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ontology is a shared understanding of some domain of interest. [Uschold, Gruninger, 9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viele weitere Definitionen, in unserem Sinne ist – zunächst informell betrachtet - alles eine Ontologie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Konzeptualisierung eines Weltausschnitts darstel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formale Spezifikation besitz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ens einer Gruppe von Personen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1853-807E-46FC-B87D-191EE721BD3B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Konjunktion (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6121440" y="304812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03584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6"/>
          <p:cNvSpPr/>
          <p:nvPr/>
        </p:nvSpPr>
        <p:spPr>
          <a:xfrm>
            <a:off x="718812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734076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8"/>
          <p:cNvSpPr/>
          <p:nvPr/>
        </p:nvSpPr>
        <p:spPr>
          <a:xfrm>
            <a:off x="657864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673092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756936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7416720" y="5105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1612440" y="36529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Ein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1609200" y="402264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s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1560240" y="4343400"/>
            <a:ext cx="39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uchscr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gabegerät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s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1633320" y="27432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6831360" y="259092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4422600" y="270036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27"/>
          <p:cNvSpPr/>
          <p:nvPr/>
        </p:nvSpPr>
        <p:spPr>
          <a:xfrm>
            <a:off x="6299280" y="3213000"/>
            <a:ext cx="1816200" cy="224784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28"/>
          <p:cNvSpPr/>
          <p:nvPr/>
        </p:nvSpPr>
        <p:spPr>
          <a:xfrm>
            <a:off x="6743880" y="3594240"/>
            <a:ext cx="1231560" cy="22604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29"/>
          <p:cNvSpPr/>
          <p:nvPr/>
        </p:nvSpPr>
        <p:spPr>
          <a:xfrm>
            <a:off x="7264440" y="3860640"/>
            <a:ext cx="520560" cy="1067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30"/>
          <p:cNvSpPr/>
          <p:nvPr/>
        </p:nvSpPr>
        <p:spPr>
          <a:xfrm>
            <a:off x="3352680" y="3403440"/>
            <a:ext cx="3124440" cy="48276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32"/>
          <p:cNvSpPr/>
          <p:nvPr/>
        </p:nvSpPr>
        <p:spPr>
          <a:xfrm>
            <a:off x="3352680" y="3772080"/>
            <a:ext cx="3657600" cy="7236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34"/>
          <p:cNvSpPr/>
          <p:nvPr/>
        </p:nvSpPr>
        <p:spPr>
          <a:xfrm>
            <a:off x="3276720" y="4165560"/>
            <a:ext cx="4267080" cy="55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26F8-1C03-4EB5-9E4E-EB1D3864AA28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Disjunktion (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11"/>
          <p:cNvSpPr/>
          <p:nvPr/>
        </p:nvSpPr>
        <p:spPr>
          <a:xfrm>
            <a:off x="74674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1573560" y="35766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it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1623600" y="39466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647000" y="4327560"/>
            <a:ext cx="31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iAngestel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arbeiter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1633320" y="266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27"/>
          <p:cNvSpPr/>
          <p:nvPr/>
        </p:nvSpPr>
        <p:spPr>
          <a:xfrm>
            <a:off x="6350040" y="3048120"/>
            <a:ext cx="1638360" cy="1460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reeform 30"/>
          <p:cNvSpPr/>
          <p:nvPr/>
        </p:nvSpPr>
        <p:spPr>
          <a:xfrm>
            <a:off x="6299280" y="4470480"/>
            <a:ext cx="1727280" cy="6350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32"/>
          <p:cNvSpPr/>
          <p:nvPr/>
        </p:nvSpPr>
        <p:spPr>
          <a:xfrm>
            <a:off x="6210360" y="2971800"/>
            <a:ext cx="1955880" cy="2387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33"/>
          <p:cNvSpPr/>
          <p:nvPr/>
        </p:nvSpPr>
        <p:spPr>
          <a:xfrm>
            <a:off x="2971800" y="3441600"/>
            <a:ext cx="3505320" cy="749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34"/>
          <p:cNvSpPr/>
          <p:nvPr/>
        </p:nvSpPr>
        <p:spPr>
          <a:xfrm>
            <a:off x="2971800" y="3860640"/>
            <a:ext cx="3429000" cy="939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35"/>
          <p:cNvSpPr/>
          <p:nvPr/>
        </p:nvSpPr>
        <p:spPr>
          <a:xfrm>
            <a:off x="3581280" y="4495680"/>
            <a:ext cx="2743200" cy="53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B495-E158-4ACE-BF93-AA0BC1304EE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s Existenzqua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{d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 (d,e)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5"/>
          <p:cNvSpPr/>
          <p:nvPr/>
        </p:nvSpPr>
        <p:spPr>
          <a:xfrm>
            <a:off x="6934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1633320" y="35766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1635480" y="3946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es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1264680" y="26668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1614960" y="43275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25"/>
          <p:cNvSpPr/>
          <p:nvPr/>
        </p:nvSpPr>
        <p:spPr>
          <a:xfrm>
            <a:off x="6261120" y="2959200"/>
            <a:ext cx="1523880" cy="14731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26"/>
          <p:cNvSpPr/>
          <p:nvPr/>
        </p:nvSpPr>
        <p:spPr>
          <a:xfrm>
            <a:off x="6438960" y="4356000"/>
            <a:ext cx="1676520" cy="13464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27"/>
          <p:cNvSpPr/>
          <p:nvPr/>
        </p:nvSpPr>
        <p:spPr>
          <a:xfrm>
            <a:off x="2895480" y="3111480"/>
            <a:ext cx="3886200" cy="6984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28"/>
          <p:cNvSpPr/>
          <p:nvPr/>
        </p:nvSpPr>
        <p:spPr>
          <a:xfrm>
            <a:off x="6629400" y="4038480"/>
            <a:ext cx="15228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 flipH="1">
            <a:off x="7009920" y="3505320"/>
            <a:ext cx="22860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31"/>
          <p:cNvSpPr/>
          <p:nvPr/>
        </p:nvSpPr>
        <p:spPr>
          <a:xfrm>
            <a:off x="2971800" y="4432320"/>
            <a:ext cx="3581280" cy="5205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1567440" y="47228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ucht.Vorle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35"/>
          <p:cNvSpPr/>
          <p:nvPr/>
        </p:nvSpPr>
        <p:spPr>
          <a:xfrm>
            <a:off x="6413400" y="3187800"/>
            <a:ext cx="1117800" cy="109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36"/>
          <p:cNvSpPr/>
          <p:nvPr/>
        </p:nvSpPr>
        <p:spPr>
          <a:xfrm>
            <a:off x="4114800" y="3530520"/>
            <a:ext cx="2514600" cy="142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38"/>
          <p:cNvSpPr/>
          <p:nvPr/>
        </p:nvSpPr>
        <p:spPr>
          <a:xfrm>
            <a:off x="2743200" y="4191120"/>
            <a:ext cx="39625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9"/>
          <p:cNvSpPr/>
          <p:nvPr/>
        </p:nvSpPr>
        <p:spPr>
          <a:xfrm>
            <a:off x="2743200" y="4191120"/>
            <a:ext cx="43434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ACE4-E8A8-4581-BBD9-A105F4C72DC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s Allqua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{d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d,e)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6"/>
          <p:cNvSpPr/>
          <p:nvPr/>
        </p:nvSpPr>
        <p:spPr>
          <a:xfrm>
            <a:off x="6858000" y="3429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7"/>
          <p:cNvSpPr/>
          <p:nvPr/>
        </p:nvSpPr>
        <p:spPr>
          <a:xfrm>
            <a:off x="7596360" y="35733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8"/>
          <p:cNvSpPr/>
          <p:nvPr/>
        </p:nvSpPr>
        <p:spPr>
          <a:xfrm>
            <a:off x="662940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1634760" y="42670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t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1643760" y="3962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tu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1416960" y="26668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4"/>
          <p:cNvSpPr/>
          <p:nvPr/>
        </p:nvSpPr>
        <p:spPr>
          <a:xfrm>
            <a:off x="1511280" y="501336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tBein.Holz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30"/>
          <p:cNvSpPr/>
          <p:nvPr/>
        </p:nvSpPr>
        <p:spPr>
          <a:xfrm flipH="1" flipV="1">
            <a:off x="7019640" y="3573000"/>
            <a:ext cx="60948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31"/>
          <p:cNvSpPr/>
          <p:nvPr/>
        </p:nvSpPr>
        <p:spPr>
          <a:xfrm>
            <a:off x="6858000" y="4876920"/>
            <a:ext cx="30492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32"/>
          <p:cNvSpPr/>
          <p:nvPr/>
        </p:nvSpPr>
        <p:spPr>
          <a:xfrm>
            <a:off x="6858000" y="4800600"/>
            <a:ext cx="6094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33"/>
          <p:cNvSpPr/>
          <p:nvPr/>
        </p:nvSpPr>
        <p:spPr>
          <a:xfrm>
            <a:off x="6948360" y="3573360"/>
            <a:ext cx="747720" cy="998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Freeform 34"/>
          <p:cNvSpPr/>
          <p:nvPr/>
        </p:nvSpPr>
        <p:spPr>
          <a:xfrm>
            <a:off x="6756480" y="3683160"/>
            <a:ext cx="1257120" cy="21463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5"/>
          <p:cNvSpPr/>
          <p:nvPr/>
        </p:nvSpPr>
        <p:spPr>
          <a:xfrm>
            <a:off x="1614240" y="463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Holz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36"/>
          <p:cNvSpPr/>
          <p:nvPr/>
        </p:nvSpPr>
        <p:spPr>
          <a:xfrm>
            <a:off x="6300720" y="3068640"/>
            <a:ext cx="901800" cy="2171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reeform 38"/>
          <p:cNvSpPr/>
          <p:nvPr/>
        </p:nvSpPr>
        <p:spPr>
          <a:xfrm>
            <a:off x="2438280" y="3403440"/>
            <a:ext cx="4038840" cy="7876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40"/>
          <p:cNvSpPr/>
          <p:nvPr/>
        </p:nvSpPr>
        <p:spPr>
          <a:xfrm>
            <a:off x="6629400" y="4546440"/>
            <a:ext cx="380880" cy="406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41"/>
          <p:cNvSpPr/>
          <p:nvPr/>
        </p:nvSpPr>
        <p:spPr>
          <a:xfrm>
            <a:off x="3924360" y="4648320"/>
            <a:ext cx="2705040" cy="838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42"/>
          <p:cNvSpPr/>
          <p:nvPr/>
        </p:nvSpPr>
        <p:spPr>
          <a:xfrm flipV="1">
            <a:off x="2700360" y="3644640"/>
            <a:ext cx="4608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43"/>
          <p:cNvSpPr/>
          <p:nvPr/>
        </p:nvSpPr>
        <p:spPr>
          <a:xfrm flipV="1">
            <a:off x="2666880" y="4292640"/>
            <a:ext cx="4784760" cy="203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44"/>
          <p:cNvSpPr/>
          <p:nvPr/>
        </p:nvSpPr>
        <p:spPr>
          <a:xfrm>
            <a:off x="2666880" y="4495680"/>
            <a:ext cx="464832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45"/>
          <p:cNvSpPr/>
          <p:nvPr/>
        </p:nvSpPr>
        <p:spPr>
          <a:xfrm>
            <a:off x="2743200" y="4495680"/>
            <a:ext cx="43434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47"/>
          <p:cNvSpPr/>
          <p:nvPr/>
        </p:nvSpPr>
        <p:spPr>
          <a:xfrm>
            <a:off x="2819520" y="4876920"/>
            <a:ext cx="3962160" cy="5461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3A00-3CEF-434D-80A1-12DD56F62FB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 der Zeit sind verschiedene DL Konstruktoren eingeführt worden, um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 erweitern. Z.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ahlenrestriktion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| |{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| |{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 hatKind bedeutet alle Individuen, die mindestens drei Kinder h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hatMutter bedeutet alle Individuen, die höchstens eine Mutter h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B813-9513-43B1-887E-467E40BBE18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lifizierte Zahlenrestriktionen: wie Zahlenrestriktion nur mit dem Unterschied, dass der Wertebereich festgeleg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R.C bzw.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R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{x | |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} bzw. {x | |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 hatKind.Frau bedeutet alle Individuen, die mindestens 2 weibliche Kinder (Töchter) h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hatElterteil.Mann bedeutet alle Individuen, die höchstens einen männlichen Elternteil (Vater) hab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B0DC-5F0E-4ED2-BD61-F5C8E51DBED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19320" y="1125000"/>
            <a:ext cx="769608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rollen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µ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istVaterV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Kind bedeutet, dass wann immer a Vater von b ist, a auch b als Kind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näquival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istVorfahrV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Nachfahren bedeutet, dass a Vorfahr von b genau dann ist, wenn a b als Nachfahren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8A93-719D-470E-A9C7-ABB7A5DF5FE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19320" y="1125000"/>
            <a:ext cx="769608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verse R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,x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hatKin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hatElternteil bedeutet, dass hatElternteil eine inverse Rolle von hatKind ist. D.h. wenn a Kind von b ist, ist b Elternteil v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ansitive R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: Trans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(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Trans(hatNachkommen) bedeutet, dass die Nachkommen von Nachkommen auch Nachkommen sind. D.h. wenn b Nachkommen von a ist und c Nachkommen von b, dann ist c Nachkommen v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F084-32F7-4982-AA44-8D9550A2208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808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minal: Damit kann man vorgeben welche Individuen Instanz von einem Konzept sein dür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ax: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mantik: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EU-Mitglied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Deutschland, Italien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onkrete Rollen: Rollen, die als zweite Argumente Datentypen wie z.B. Zahlen oder Strings ha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hasAge(Markus,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bei ist die Semantik der Datentypen festgelegt, d.h. 2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t die Zahl 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4724280" y="990720"/>
            <a:ext cx="3745080" cy="6311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7528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Erweiterungen von </a:t>
            </a:r>
            <a:r>
              <a:rPr b="0" lang="de-DE" sz="32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447920" y="1422360"/>
          <a:ext cx="3097080" cy="3308400"/>
        </p:xfrm>
        <a:graphic>
          <a:graphicData uri="http://schemas.openxmlformats.org/drawingml/2006/table">
            <a:tbl>
              <a:tblPr/>
              <a:tblGrid>
                <a:gridCol w="985680"/>
                <a:gridCol w="21114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u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8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.C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m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.C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…,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Text Box 36"/>
          <p:cNvSpPr/>
          <p:nvPr/>
        </p:nvSpPr>
        <p:spPr>
          <a:xfrm>
            <a:off x="1447920" y="990720"/>
            <a:ext cx="30970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7"/>
          <p:cNvSpPr/>
          <p:nvPr/>
        </p:nvSpPr>
        <p:spPr>
          <a:xfrm>
            <a:off x="1523880" y="4876920"/>
            <a:ext cx="302436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523880" y="5308560"/>
          <a:ext cx="3024360" cy="746280"/>
        </p:xfrm>
        <a:graphic>
          <a:graphicData uri="http://schemas.openxmlformats.org/drawingml/2006/table">
            <a:tbl>
              <a:tblPr/>
              <a:tblGrid>
                <a:gridCol w="1727280"/>
                <a:gridCol w="12970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3" name="Text Box 49"/>
          <p:cNvSpPr/>
          <p:nvPr/>
        </p:nvSpPr>
        <p:spPr>
          <a:xfrm rot="10800000">
            <a:off x="1158480" y="1422360"/>
            <a:ext cx="27468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0"/>
          <p:cNvSpPr/>
          <p:nvPr/>
        </p:nvSpPr>
        <p:spPr>
          <a:xfrm rot="10800000">
            <a:off x="1158480" y="3583080"/>
            <a:ext cx="2746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51"/>
          <p:cNvSpPr/>
          <p:nvPr/>
        </p:nvSpPr>
        <p:spPr>
          <a:xfrm rot="10800000">
            <a:off x="1239480" y="5308560"/>
            <a:ext cx="2746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2"/>
          <p:cNvSpPr/>
          <p:nvPr/>
        </p:nvSpPr>
        <p:spPr>
          <a:xfrm>
            <a:off x="5273640" y="1270080"/>
            <a:ext cx="29512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pt Axioms (T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273640" y="1701720"/>
          <a:ext cx="2951280" cy="746280"/>
        </p:xfrm>
        <a:graphic>
          <a:graphicData uri="http://schemas.openxmlformats.org/drawingml/2006/table">
            <a:tbl>
              <a:tblPr/>
              <a:tblGrid>
                <a:gridCol w="1657440"/>
                <a:gridCol w="12938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val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8" name="Text Box 64"/>
          <p:cNvSpPr/>
          <p:nvPr/>
        </p:nvSpPr>
        <p:spPr>
          <a:xfrm>
            <a:off x="5273640" y="2638440"/>
            <a:ext cx="29512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le Axioms (R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65"/>
          <p:cNvSpPr/>
          <p:nvPr/>
        </p:nvSpPr>
        <p:spPr>
          <a:xfrm>
            <a:off x="5275440" y="3914640"/>
            <a:ext cx="2950920" cy="43200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rtional Axioms (A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5275440" y="4311720"/>
          <a:ext cx="2950920" cy="1566720"/>
        </p:xfrm>
        <a:graphic>
          <a:graphicData uri="http://schemas.openxmlformats.org/drawingml/2006/table">
            <a:tbl>
              <a:tblPr/>
              <a:tblGrid>
                <a:gridCol w="1655640"/>
                <a:gridCol w="129528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(a,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=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1" name="Text Box 83"/>
          <p:cNvSpPr/>
          <p:nvPr/>
        </p:nvSpPr>
        <p:spPr>
          <a:xfrm rot="10800000">
            <a:off x="4986000" y="3068280"/>
            <a:ext cx="274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84"/>
          <p:cNvSpPr/>
          <p:nvPr/>
        </p:nvSpPr>
        <p:spPr>
          <a:xfrm rot="10800000">
            <a:off x="1158480" y="4374720"/>
            <a:ext cx="2746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85"/>
          <p:cNvSpPr/>
          <p:nvPr/>
        </p:nvSpPr>
        <p:spPr>
          <a:xfrm rot="10800000">
            <a:off x="4986000" y="3428640"/>
            <a:ext cx="274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5273640" y="3070080"/>
          <a:ext cx="2951280" cy="762120"/>
        </p:xfrm>
        <a:graphic>
          <a:graphicData uri="http://schemas.openxmlformats.org/drawingml/2006/table">
            <a:tbl>
              <a:tblPr/>
              <a:tblGrid>
                <a:gridCol w="1657440"/>
                <a:gridCol w="12938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5" name="Text Box 97"/>
          <p:cNvSpPr/>
          <p:nvPr/>
        </p:nvSpPr>
        <p:spPr>
          <a:xfrm>
            <a:off x="152280" y="62514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+ Transitivity     OWL DL = 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SHOI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: Datenty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A5B4-C098-4314-9D2F-0D93B9EC185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Gemeinsame Spra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People can´t share knowledge if they don´t speak a common language„ [T. Davenpor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Gemeinsame Sprache" notwendig für funktionierende Kommunikation zwischen Personen bzw. Masch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hldefiniertes Vokabular an Symbolen (Lexemen, lexical e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s Verständnis, welche Begriffe (concepts) und Beziehungen (relations) durch die Symbole referenzi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3808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FDB6-7EB0-4FD8-81F4-1C108C01260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modellierung (Bsp.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920" y="33577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ws are vegetar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getarians eat neither animal parts nor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 mad cow is one that has been eating sheep bra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eep are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ita is a mad c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ussfolgerung: Wissensbasis ist inkonsisten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1042920" y="1341360"/>
            <a:ext cx="7848720" cy="1922760"/>
          </a:xfrm>
          <a:prstGeom prst="rect">
            <a:avLst/>
          </a:prstGeom>
          <a:solidFill>
            <a:srgbClr val="e9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vege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vegetarian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: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animal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: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ad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(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ani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00"/>
                </a:solidFill>
                <a:latin typeface="Times New Roman"/>
              </a:rPr>
              <a:t>madcow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beni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4917-50F7-476D-A299-625D1FA16E9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und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FOL = Prädikatenlogik 1. Stu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ebenso andere DLs) ist ein Fragment von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 Wissensbasis kann semantikerhaltend nach FOL übersetz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strumentarium der Logik (aus Mathematik, Philosophie, Informatik, Künstlicher Intelligenz) kann verwendet werden.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über 2000 Jahre Entwicklung seit Aristote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7075-DF4E-4C50-B77E-6B51428B39D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und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formungen nach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) ( 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 )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Modern No. 20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Modern No. 20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) ( 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) ( R(x,y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(y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) ( R(x,y) </a:t>
            </a:r>
            <a:r>
              <a:rPr b="1" lang="en-US" sz="2800" spc="-1" strike="noStrike">
                <a:solidFill>
                  <a:srgbClr val="ff0066"/>
                </a:solidFill>
                <a:latin typeface="cmsy10"/>
              </a:rPr>
              <a:t>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(y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33AC-38A8-4D5E-925C-1AAE62B95B9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formung nach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457200" y="137160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vege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ad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(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rd 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) (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vegetarian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) (mad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)(eats(x,y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z)( partof(y,z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sheep(z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rain(z)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chtige Inferenzprobl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lobale Konsistenz der Wissensbas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cc0000"/>
                </a:solidFill>
                <a:latin typeface="Arial"/>
              </a:rPr>
              <a:t>fa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Wissensbasis sinnvo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konsist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ss Klasse C leer se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inklusion (Subsumptio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kturierung der Wissens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äquival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zwei Klassen eigentlich diesel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disjunkth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 =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zwei Klassen disjunk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zugehörigk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(a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Individuum a in der Klasse 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tanzgenerierung (Retrieval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„alle X mit C(X) find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e alle (bekannten!) Individuen zur Klasse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Rückführung auf Unerfüllbarke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15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konsisten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{C(a)} uner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inklusion (Subsumption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(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)(a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äquivalen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 und 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disjunkth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(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)(a)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zugehör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(a)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nzgenerierung (Retrieval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C(X) 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e Klassenzugehörigkeit für alle Individu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r werden das Tableauverfahren behand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Tableauverfahren versucht, auf "abstrakte" Weise ein Modell zu konstrui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sslingt das, dann ist die Wissensbasis unerfü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lingt es, ist sie erfü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Rückführung der Inferenzprobleme auf das Zeigen der Unerfüllbarkeit der Wissensba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Umformen in Negationsnormalfor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ben eine Wissensbasis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etze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durch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und 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etze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durc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de die Regeln auf der folgenden Folie an, bis es nicht mehr ge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ierende Wissensbasis: NNF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egationsnormalfor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on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gation steht nur noch direkt vor atomaren Kl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C, falls C atom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, falls C atom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NF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NF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) = 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) = 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 und NNF(W) sind logisch äquival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Umformen in Negationsnormalfor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aives Tableau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st auf Unerfüll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d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geben Wissensbasis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uch der Erzeugung eines Baumes (genann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ablea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, der ein Modell von W repräsentiert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Eigentlich ei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al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lägt der Versuch fehl, ist W unerfüll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1876-D1A4-49AF-8FE5-E15061775A2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finition von Ontologi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allgemeine Zusammenhang wird von dem Bedeutungsdreieck beschrieben, welches die Interaktion zwis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mbolen, Begriff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genständ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r Welt defini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4880" y="152388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2484360" y="3284640"/>
            <a:ext cx="4838400" cy="2389680"/>
            <a:chOff x="2484360" y="3284640"/>
            <a:chExt cx="4838400" cy="2389680"/>
          </a:xfrm>
        </p:grpSpPr>
        <p:sp>
          <p:nvSpPr>
            <p:cNvPr id="163" name="Rectangle 5"/>
            <p:cNvSpPr/>
            <p:nvPr/>
          </p:nvSpPr>
          <p:spPr>
            <a:xfrm>
              <a:off x="5837040" y="5100120"/>
              <a:ext cx="1485720" cy="44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2663280" y="51735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Sym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5920920" y="5156280"/>
              <a:ext cx="12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Gegenst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2484360" y="5100120"/>
              <a:ext cx="1219320" cy="53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3779640" y="53665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 flipV="1">
              <a:off x="3187800" y="4300200"/>
              <a:ext cx="744120" cy="78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 flipH="1" flipV="1">
              <a:off x="5456160" y="4300200"/>
              <a:ext cx="773280" cy="78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4262040" y="5367240"/>
              <a:ext cx="77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steht fü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5569560" y="4567320"/>
              <a:ext cx="10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referenz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3222360" y="4466880"/>
              <a:ext cx="779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aktiv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728880" y="3284640"/>
              <a:ext cx="1803240" cy="110448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6"/>
            <p:cNvSpPr/>
            <p:nvPr/>
          </p:nvSpPr>
          <p:spPr>
            <a:xfrm>
              <a:off x="4163760" y="355068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Begri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as Tablea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000" y="1214280"/>
            <a:ext cx="849636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Tableau ist ein gerichteter beschrifteter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noten repräsentieren Elemente der Domäne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s Mod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r Knoten x ist mit einer Menge L(x) von Klassenausdrücken beschrift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steht für: "x ist in der Extension von C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anten stehen für Roll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Kante &lt;x,y&gt; ist mit einer Menge von Rollennamen L(&lt;x,y&gt;) beschrif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&lt;x,y&gt;) steht für: "(x,y) ist in der Extension von 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itialis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put: K=TBox + ABox (in NN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Knoten für jedes Individuum in der A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r Knoten beschriftet mit den entsprechenden Klassennamen aus der A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mit R beschriftete Kante zwischen a und b falls R(a,b) in der ABox ste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Initialis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A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150560" y="39895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094040" y="5645160"/>
            <a:ext cx="14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8"/>
          <p:cNvSpPr/>
          <p:nvPr/>
        </p:nvSpPr>
        <p:spPr>
          <a:xfrm>
            <a:off x="3348000" y="3789360"/>
            <a:ext cx="1058760" cy="42372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7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9"/>
          <p:cNvSpPr/>
          <p:nvPr/>
        </p:nvSpPr>
        <p:spPr>
          <a:xfrm>
            <a:off x="3276720" y="5445000"/>
            <a:ext cx="1218960" cy="42408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5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&lt;nicht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212400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765000" y="474804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egationsnormalform!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 (Hum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.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1150560" y="39895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094040" y="5645160"/>
            <a:ext cx="14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3348000" y="3789360"/>
            <a:ext cx="1058760" cy="42372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7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3276720" y="5445000"/>
            <a:ext cx="1218960" cy="42408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5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&lt;nicht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0"/>
          <p:cNvSpPr/>
          <p:nvPr/>
        </p:nvSpPr>
        <p:spPr>
          <a:xfrm>
            <a:off x="212400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765000" y="474804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struktion des Tablea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weitere das Tableau nichtdeterministisch mit den Regeln auf der folgenden Se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miniere, we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eschriftung eines Knotens einen Widerspruch enthält (d.h. Klassen C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enthält) 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der Regeln mehr anwendb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lls das Tableau keinen Widerspruch enthält, ist die Wissensbasis erfüllbar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genauer: sind die Regeln durch geeignete Auswahl so anwendbar, dass kein Widerspruch entsteht und keine Regel mehr anwendbar ist, so ist die Wissensbasis erfüll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9898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⊈ L(x)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=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;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 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od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D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x keinen R-Nachfolger y mit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hat, da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einen neuen Knoten y hinzu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&lt;x,y&gt;) = {R} und L(y)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es gibt einen R-Nachfolger y von x mit C ∉ L(y), dann s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y) = L(y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Box: Ist C in der TBox und C ∉ L(x), dann setz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regel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(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935640" y="31561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53920" y="592452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3352680" y="3557520"/>
            <a:ext cx="5400720" cy="1722600"/>
          </a:xfrm>
          <a:prstGeom prst="borderCallout1">
            <a:avLst>
              <a:gd name="adj1" fmla="val 18750"/>
              <a:gd name="adj2" fmla="val -8333"/>
              <a:gd name="adj3" fmla="val -4425"/>
              <a:gd name="adj4" fmla="val -151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rph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(Hum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phan (Widerspr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um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um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7"/>
          <p:cNvSpPr/>
          <p:nvPr/>
        </p:nvSpPr>
        <p:spPr>
          <a:xfrm>
            <a:off x="3281400" y="5424480"/>
            <a:ext cx="3743280" cy="711360"/>
          </a:xfrm>
          <a:prstGeom prst="borderCallout1">
            <a:avLst>
              <a:gd name="adj1" fmla="val 18750"/>
              <a:gd name="adj2" fmla="val -8333"/>
              <a:gd name="adj3" fmla="val 110712"/>
              <a:gd name="adj4" fmla="val -226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 (Widerspr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8"/>
          <p:cNvSpPr/>
          <p:nvPr/>
        </p:nvSpPr>
        <p:spPr>
          <a:xfrm>
            <a:off x="2128680" y="362412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557640" y="45957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4806000" y="0"/>
            <a:ext cx="34099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(jamespo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.h. füge hinzu: Alive(jamespo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nd suche Widerspr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Problem mit der Termin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Box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ox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&gt;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st offensichtlich erfüllbar: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 M enthält Individuen 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..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 R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 für alle i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er Tableauverfahren terminiert nic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66096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2754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986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111600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9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39528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11"/>
          <p:cNvSpPr/>
          <p:nvPr/>
        </p:nvSpPr>
        <p:spPr>
          <a:xfrm>
            <a:off x="2484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4716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3"/>
          <p:cNvSpPr/>
          <p:nvPr/>
        </p:nvSpPr>
        <p:spPr>
          <a:xfrm>
            <a:off x="550872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583280" y="48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5"/>
          <p:cNvSpPr/>
          <p:nvPr/>
        </p:nvSpPr>
        <p:spPr>
          <a:xfrm>
            <a:off x="3907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6"/>
          <p:cNvSpPr/>
          <p:nvPr/>
        </p:nvSpPr>
        <p:spPr>
          <a:xfrm>
            <a:off x="621072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ösung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tlich passiert ja nichts ne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dee: x muss nicht expandiert werden, da es eigentlich nur eine Kopie von a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6096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2754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4986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7"/>
          <p:cNvSpPr/>
          <p:nvPr/>
        </p:nvSpPr>
        <p:spPr>
          <a:xfrm>
            <a:off x="111600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8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9"/>
          <p:cNvSpPr/>
          <p:nvPr/>
        </p:nvSpPr>
        <p:spPr>
          <a:xfrm>
            <a:off x="39528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2484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4716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2"/>
          <p:cNvSpPr/>
          <p:nvPr/>
        </p:nvSpPr>
        <p:spPr>
          <a:xfrm>
            <a:off x="550872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1583280" y="48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4"/>
          <p:cNvSpPr/>
          <p:nvPr/>
        </p:nvSpPr>
        <p:spPr>
          <a:xfrm>
            <a:off x="3907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621072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 is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eblock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duch y) 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 ein Vorgänger von x ist und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ein Vorgänger von x geblock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 ist in diesem Beispiel durch a geblock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1040400" y="299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3133800" y="297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5365800" y="297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7"/>
          <p:cNvSpPr/>
          <p:nvPr/>
        </p:nvSpPr>
        <p:spPr>
          <a:xfrm>
            <a:off x="1495440" y="31924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3656160" y="31924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77472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10"/>
          <p:cNvSpPr/>
          <p:nvPr/>
        </p:nvSpPr>
        <p:spPr>
          <a:xfrm>
            <a:off x="286380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509580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5888160" y="31924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1962720" y="27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4286880" y="276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6590160" y="276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B606-D617-45E5-9852-AAF3F661804B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mbole und Gegenstän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2319120" y="2635200"/>
            <a:ext cx="3200400" cy="2057040"/>
            <a:chOff x="2319120" y="2635200"/>
            <a:chExt cx="3200400" cy="2057040"/>
          </a:xfrm>
        </p:grpSpPr>
        <p:sp>
          <p:nvSpPr>
            <p:cNvPr id="178" name="Line 4"/>
            <p:cNvSpPr/>
            <p:nvPr/>
          </p:nvSpPr>
          <p:spPr>
            <a:xfrm flipH="1">
              <a:off x="2319120" y="2635200"/>
              <a:ext cx="1548360" cy="20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5"/>
            <p:cNvSpPr/>
            <p:nvPr/>
          </p:nvSpPr>
          <p:spPr>
            <a:xfrm>
              <a:off x="2319480" y="4692240"/>
              <a:ext cx="32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3867840" y="2635200"/>
              <a:ext cx="1651680" cy="20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AutoShape 7"/>
          <p:cNvSpPr/>
          <p:nvPr/>
        </p:nvSpPr>
        <p:spPr>
          <a:xfrm>
            <a:off x="1981080" y="1523880"/>
            <a:ext cx="4191120" cy="914400"/>
          </a:xfrm>
          <a:prstGeom prst="cloudCallout">
            <a:avLst>
              <a:gd name="adj1" fmla="val -33407"/>
              <a:gd name="adj2" fmla="val 8455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056240" y="47692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1" i="1" lang="de-DE" sz="2400" spc="-1" strike="noStrike">
                <a:solidFill>
                  <a:srgbClr val="000000"/>
                </a:solidFill>
                <a:latin typeface="Book Antiqua"/>
              </a:rPr>
              <a:t>JAGUA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4926240" y="502884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enst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471320" y="52574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96760" y="121896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gr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2" descr="jaguarc"/>
          <p:cNvPicPr/>
          <p:nvPr/>
        </p:nvPicPr>
        <p:blipFill>
          <a:blip r:embed="rId1"/>
          <a:stretch/>
        </p:blipFill>
        <p:spPr>
          <a:xfrm>
            <a:off x="6324480" y="4495680"/>
            <a:ext cx="1600200" cy="90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jaguara"/>
          <p:cNvPicPr/>
          <p:nvPr/>
        </p:nvPicPr>
        <p:blipFill>
          <a:blip r:embed="rId2"/>
          <a:stretch/>
        </p:blipFill>
        <p:spPr>
          <a:xfrm>
            <a:off x="6400800" y="3200400"/>
            <a:ext cx="1371600" cy="109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JAGUARav"/>
          <p:cNvPicPr/>
          <p:nvPr/>
        </p:nvPicPr>
        <p:blipFill>
          <a:blip r:embed="rId3"/>
          <a:stretch/>
        </p:blipFill>
        <p:spPr>
          <a:xfrm>
            <a:off x="6629400" y="5486400"/>
            <a:ext cx="1143000" cy="1027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5"/>
          <p:cNvSpPr/>
          <p:nvPr/>
        </p:nvSpPr>
        <p:spPr>
          <a:xfrm>
            <a:off x="3896640" y="1675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 flipV="1">
            <a:off x="1828800" y="2743200"/>
            <a:ext cx="1447920" cy="182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>
            <a:off x="4800600" y="2438280"/>
            <a:ext cx="1905120" cy="7621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4724280" y="2590920"/>
            <a:ext cx="1828800" cy="1828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2666880"/>
            <a:ext cx="2133720" cy="3276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339440" y="1659600"/>
            <a:ext cx="94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2660760" y="1659600"/>
            <a:ext cx="90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3533400" y="1964160"/>
            <a:ext cx="114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Flugze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 mit 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e das Tableau nichtdeterministisch mit den Regeln auf der folgenden Seite, aber 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wende eine Regel nur an, falls x nicht geblock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rminiere, we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schriftung eines Knotens einen Widerspruch enthält (d.h. Klassen C un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 enthält) 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der Regeln mehr anwendbar 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s das Tableau keinen Widerspruch enthält, ist die Wissensbasis erfüllba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enauer: sind die Regeln durch geeignete Auswahl so anwendbar, dass kein Widerspruch entsteht und keine Regel mehr anwendbar ist, so ist die Wissensbasis erfüll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9898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⊈ L(x)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=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;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 oder 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x keinen R-Nachfolger y mit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hat, da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einen neuen Knoten y hinzu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&lt;x,y&gt;) = {R} und L(y)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es gibt einen R-Nachfolger y von x mit C ∉ L(y), dann s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y) = L(y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Box: Ist C in der TBox und C ∉ L(x), dann setz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Regeln nur anwenden, falls x nicht geblock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regeln mit 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x-Beweis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cs.man.ac.uk/~horrocks/FaC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t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owl.man.ac.uk/factplusplu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IQ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mindswap.org/2003/pellet/index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IN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acer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sts.tu-harburg.de/~r.f.moeller/rac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Q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scal Hitzler, Markus Krötzsch, Sebastian Rudolph, York Sure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mantic Web – Grundlagen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pringer 2008. (ISBN 978354033993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effen Staab, Rudi Studer (Editors)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andbook on Ontologies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pringer 2003 (ISBN 354040834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nz Baader, Diego Calvanese, Deborah McGuinness, Daniele Nardi, Peter Patel-Schneider (eds.),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Description Logic Handbook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ambridge University Press, 2007. (ISBN 978052178176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AB62-9AB7-4614-9393-EBC6B8CCB71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80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für Kommunik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 Ontologie reduziert die Anzahl von Abbildungen von Symbolen auf Gegenstände der realen Welt, im Idealfall ist die Abbildung eindeu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2114640" y="4730760"/>
            <a:ext cx="1209600" cy="82404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3621240" y="4148280"/>
            <a:ext cx="2047680" cy="1019160"/>
            <a:chOff x="3621240" y="4148280"/>
            <a:chExt cx="2047680" cy="1019160"/>
          </a:xfrm>
        </p:grpSpPr>
        <p:sp>
          <p:nvSpPr>
            <p:cNvPr id="202" name="Line 6"/>
            <p:cNvSpPr/>
            <p:nvPr/>
          </p:nvSpPr>
          <p:spPr>
            <a:xfrm flipH="1">
              <a:off x="3621240" y="4148280"/>
              <a:ext cx="99072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3621240" y="5167440"/>
              <a:ext cx="204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4611960" y="4148280"/>
              <a:ext cx="105660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Text Box 9"/>
          <p:cNvSpPr/>
          <p:nvPr/>
        </p:nvSpPr>
        <p:spPr>
          <a:xfrm>
            <a:off x="2199600" y="497808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1" i="1" lang="de-DE" sz="1600" spc="-1" strike="noStrike">
                <a:solidFill>
                  <a:srgbClr val="000000"/>
                </a:solidFill>
                <a:latin typeface="Book Antiqua"/>
              </a:rPr>
              <a:t>JAGUAR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569920" y="5530320"/>
            <a:ext cx="244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enstand der realen W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458360" y="5530320"/>
            <a:ext cx="244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ymbol aus dem Vokab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533400" y="2971440"/>
            <a:ext cx="21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griff in der Ont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3" descr="jaguarc"/>
          <p:cNvPicPr/>
          <p:nvPr/>
        </p:nvPicPr>
        <p:blipFill>
          <a:blip r:embed="rId1"/>
          <a:stretch/>
        </p:blipFill>
        <p:spPr>
          <a:xfrm>
            <a:off x="5826240" y="4778280"/>
            <a:ext cx="1287360" cy="5731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4"/>
          <p:cNvGrpSpPr/>
          <p:nvPr/>
        </p:nvGrpSpPr>
        <p:grpSpPr>
          <a:xfrm>
            <a:off x="4111560" y="3225960"/>
            <a:ext cx="979560" cy="776160"/>
            <a:chOff x="4111560" y="3225960"/>
            <a:chExt cx="979560" cy="776160"/>
          </a:xfrm>
        </p:grpSpPr>
        <p:pic>
          <p:nvPicPr>
            <p:cNvPr id="211" name="Picture 15" descr="WIM_Logo_klein"/>
            <p:cNvPicPr/>
            <p:nvPr/>
          </p:nvPicPr>
          <p:blipFill>
            <a:blip r:embed="rId2"/>
            <a:stretch/>
          </p:blipFill>
          <p:spPr>
            <a:xfrm>
              <a:off x="4111560" y="3225960"/>
              <a:ext cx="97956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6" descr="jaguarc"/>
            <p:cNvPicPr/>
            <p:nvPr/>
          </p:nvPicPr>
          <p:blipFill>
            <a:blip r:embed="rId3"/>
            <a:stretch/>
          </p:blipFill>
          <p:spPr>
            <a:xfrm>
              <a:off x="4295160" y="3420000"/>
              <a:ext cx="550800" cy="24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Line 17"/>
          <p:cNvSpPr/>
          <p:nvPr/>
        </p:nvSpPr>
        <p:spPr>
          <a:xfrm flipV="1">
            <a:off x="3171960" y="3517920"/>
            <a:ext cx="1122120" cy="132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4846680" y="3517920"/>
            <a:ext cx="1285920" cy="121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053A-1B44-4CD5-90E9-D1DC51809BC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sprach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en, mit denen man konzeptuell modellieren kan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dikatenlogik erster St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me-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DF(S) und OWL (W3C Recommend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en unterscheiden sich in ihrer Ausdrucksmächt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forderung: Formale Semantik und Ausführ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tologiesprachen sollten für das Semantic Web geeignet sein, siehe z.B. O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B4D7-6A27-4079-829D-55AC025EC9F8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88390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WWW ist zur Nutzung durch den Menschen bestim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WW basiert auf der Markupsprache HTML, die beschreib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nformatio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rgestell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soll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nformationen miteinan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knüpf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könn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 nicht, was diese Informatio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deu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Web ist das Web der nächste Generation, das zur Nutzung durch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n Menschen und Maschi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estimm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erausforderung für die SW Sprache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edeutung von Informationen (Web Seiten, Web Links) in maschinelesbarer Form darzu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Semantic We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6:28:51Z</dcterms:created>
  <dc:creator>ulla</dc:creator>
  <dc:description/>
  <dc:language>en-US</dc:language>
  <cp:lastModifiedBy>Sebastian Rudolph</cp:lastModifiedBy>
  <cp:lastPrinted>2000-10-25T10:09:24Z</cp:lastPrinted>
  <dcterms:modified xsi:type="dcterms:W3CDTF">2008-06-19T15:12:20Z</dcterms:modified>
  <cp:revision>289</cp:revision>
  <dc:subject/>
  <dc:title>Teil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